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3D92-CC65-4A9F-AA6F-AF7E1DCCD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9D6-8EC6-4DD0-9447-6AD13D4EB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8455-B2CD-4EB9-8D2B-3FA42EA71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3686-DFD7-4150-B24C-0D81CA9F9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48C-4D33-43B0-AE53-DCAB82347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5AA-1391-40D8-87EA-A53EF98A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94C-A01B-4EE8-A01F-C84F773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D02-7DA2-42B7-97CC-8D02DFA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F46-7F73-48C9-9440-4EF1086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DFF-DC95-43F9-A8BB-2B592E3D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272-4100-4EB9-B145-84CCD83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3414-8A94-4D0E-8B9A-FB66778F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8D8-38EA-455C-9AA1-AD50D9D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42DA-9F90-4E1E-AC7E-ADF20D16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5038-A917-4624-83CF-9869163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EF78-D7B7-4F93-AC69-314166D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5A5-C6D3-4D97-8D81-AB206058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60D-DE52-47AE-80A6-323D0CA9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EC8D-6618-49E3-A971-7EC9C33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37F-B0C1-401D-B588-B6F54FA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BA59-E0FE-409F-A049-1AD77C31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0DAD-AD0A-4A76-9AC7-E648466F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3998-2273-4C17-A12A-D73F8D82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C3A4-ADB9-4CB1-9E94-C143DDB0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118F-DFE0-43AB-B0DB-6ECC753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0E6E-799A-4E88-A091-FFE48DB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A262-9C36-4E39-B8C6-839E91AD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8A8-560C-4FE6-9104-62C89E9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AFBE-66A1-41B7-B740-1368E67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49E1-618A-4C49-BE3F-C1DF4D1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127F-C645-46F4-B26E-ADF854A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10FF-F85E-420C-B7A6-ACE1D9C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895D-5A31-4C98-B027-DDB3757F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BA68-57C1-42FE-AF00-9BC41F52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62F6-968E-4387-857B-6C1C9728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578-0C84-456B-A8D2-4D50E4DE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3DD-976C-4ED1-9630-01DC4DFA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854-AFEA-4975-83A5-25C77B0B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29B-8E44-40D1-B1E9-279111F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E29-56DE-480A-8B16-C63E63E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263-720E-4EFA-905C-F614031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6FAC-152C-4CB8-A898-8C7279B5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002-381A-468A-89DC-074BF095B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10B6-9082-44B5-9802-0073D42D7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4caster@longlines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Logo%20Project%20for%20PAP.doc" TargetMode="External"/><Relationship Id="rId3" Type="http://schemas.openxmlformats.org/officeDocument/2006/relationships/hyperlink" Target="file:///../Projects/Geometry%20in%20the%20Real%20World%20Presentation/Logo%20Project%20for%20Regulars.doc" TargetMode="External"/><Relationship Id="rId4" Type="http://schemas.openxmlformats.org/officeDocument/2006/relationships/hyperlink" Target="file:///../Projects/Geometry%20Goes%20Hollywood.doc" TargetMode="External"/><Relationship Id="rId5" Type="http://schemas.openxmlformats.org/officeDocument/2006/relationships/hyperlink" Target="file:///../Projects/Geometry%20in%20the%20Real%20World%20Presentation/Candy%20Corn%20Project.doc" TargetMode="External"/><Relationship Id="rId6" Type="http://schemas.openxmlformats.org/officeDocument/2006/relationships/hyperlink" Target="file:///../Projects/Geometry%20in%20the%20Real%20World%20Presentation/Cookie%20Exchange%20Recipe%20Project.doc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pythagoras.doc" TargetMode="External"/><Relationship Id="rId3" Type="http://schemas.openxmlformats.org/officeDocument/2006/relationships/hyperlink" Target="file:///../poems%20and%20stories/special%20right.doc" TargetMode="External"/><Relationship Id="rId4" Type="http://schemas.openxmlformats.org/officeDocument/2006/relationships/hyperlink" Target="file:///../poems%20and%20stories/life%20of%20oliver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area.doc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cindy%20at%20the%20dance.doc" TargetMode="External"/><Relationship Id="rId3" Type="http://schemas.openxmlformats.org/officeDocument/2006/relationships/hyperlink" Target="file:///../poems%20and%20stories/Circumference%20%20Mania.doc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end%20of%20year%20project.doc" TargetMode="External"/><Relationship Id="rId3" Type="http://schemas.openxmlformats.org/officeDocument/2006/relationships/hyperlink" Target="file:///../Projects/Multiple%20Intelligences%20Tic-Tac-Toe.doc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the%20proof.doc" TargetMode="External"/><Relationship Id="rId3" Type="http://schemas.openxmlformats.org/officeDocument/2006/relationships/hyperlink" Target="file:///../Projects/Geometry%20in%20the%20Real%20World%20Presentation/Advertisement%20Project.doc" TargetMode="External"/><Relationship Id="rId4" Type="http://schemas.openxmlformats.org/officeDocument/2006/relationships/hyperlink" Target="file:///../Projects/Geometry%20in%20the%20Real%20World%20Presentation/If%20you%20give%20a%20geometry%20student%20a%20project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hanging%20angles.doc" TargetMode="External"/><Relationship Id="rId3" Type="http://schemas.openxmlformats.org/officeDocument/2006/relationships/hyperlink" Target="file:///../Projects/Geometry%20in%20the%20Real%20World%20Presentation/Letter%20to%20the%20angle.doc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ity%20Project.doc" TargetMode="External"/><Relationship Id="rId3" Type="http://schemas.openxmlformats.org/officeDocument/2006/relationships/hyperlink" Target="file:///../Projects/Geometry%20in%20the%20Real%20World%20Presentation/city%20letter%20project.doc" TargetMode="External"/><Relationship Id="rId4" Type="http://schemas.openxmlformats.org/officeDocument/2006/relationships/hyperlink" Target="file:///../Projects/Geometry%20in%20the%20Real%20World%20Presentation/Your%20Rubric%20Letter-Writing%20%20City%20Project.mh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thelma%20lou%20meets%20the%20triangle.doc" TargetMode="External"/><Relationship Id="rId3" Type="http://schemas.openxmlformats.org/officeDocument/2006/relationships/hyperlink" Target="file:///../Projects/Geometry%20in%20the%20Real%20World%20Presentation/congruent%20triangles.doc" TargetMode="External"/><Relationship Id="rId4" Type="http://schemas.openxmlformats.org/officeDocument/2006/relationships/hyperlink" Target="file:///../Projects/Geometry%20in%20the%20Real%20World%20Presentation/Quilt%20Square%20Project.doc" TargetMode="External"/><Relationship Id="rId5" Type="http://schemas.openxmlformats.org/officeDocument/2006/relationships/hyperlink" Target="file:///../Projects/Geometry%20in%20the%20Real%20World%20Presentation/Quilt%20History%20Project.doc" TargetMode="External"/><Relationship Id="rId6" Type="http://schemas.openxmlformats.org/officeDocument/2006/relationships/hyperlink" Target="file:///../Projects/Geometry%20in%20the%20Real%20World%20Presentation/STAIN%20GLASS%20PROJECT.doc" TargetMode="External"/><Relationship Id="rId7" Type="http://schemas.openxmlformats.org/officeDocument/2006/relationships/hyperlink" Target="file:///../Projects/Geometry%20in%20the%20Real%20World%20Presentation/Triangular%20Creativity.doc" TargetMode="External"/><Relationship Id="rId8" Type="http://schemas.openxmlformats.org/officeDocument/2006/relationships/hyperlink" Target="file:///../Projects/Geometry%20in%20the%20Real%20World%20Presentation/Kaleidoscope%20Project.doc" TargetMode="External"/><Relationship Id="rId9" Type="http://schemas.openxmlformats.org/officeDocument/2006/relationships/hyperlink" Target="file:///../Projects/Geometry%20in%20the%20Real%20World%20Presentation/Bridge%20Building%20Project.doc" TargetMode="External"/><Relationship Id="rId10" Type="http://schemas.openxmlformats.org/officeDocument/2006/relationships/hyperlink" Target="file:///../Projects/tic%20tac%20toe%20triangles%20activities.doc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ollage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clementine.doc" TargetMode="External"/><Relationship Id="rId3" Type="http://schemas.openxmlformats.org/officeDocument/2006/relationships/hyperlink" Target="file:///../Projects/Geometry%20Flag%20Project.doc" TargetMode="External"/><Relationship Id="rId4" Type="http://schemas.openxmlformats.org/officeDocument/2006/relationships/hyperlink" Target="file:///../Projects/Geometry%20in%20the%20Real%20World%20Presentation/Kite%20Project.doc" TargetMode="External"/><Relationship Id="rId5" Type="http://schemas.openxmlformats.org/officeDocument/2006/relationships/hyperlink" Target="file:///../Projects/Geometry%20in%20the%20Real%20World%20Presentation/Kite%20Guidelines%20and%20Grading%20of%20Kite.doc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reating%20a%20Career%20Solid.doc" TargetMode="External"/><Relationship Id="rId3" Type="http://schemas.openxmlformats.org/officeDocument/2006/relationships/hyperlink" Target="file:///../Projects/Flatland%20project.doc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71600" y="831960"/>
            <a:ext cx="6400800" cy="5194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howcard Gothic"/>
              </a:rPr>
              <a:t>Geometry in the Real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anie San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caster@longlines.com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Showcard Gothic"/>
              </a:rPr>
              <a:t>Ratios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ogo Projec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advan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go Proj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regu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ometry Goes Holly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andy Cor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oki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Right Triangl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ythagoras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pecial Right Triangl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ory of Ol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Showcard Gothic"/>
              </a:rPr>
              <a:t>Are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ea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Showcard Gothic"/>
              </a:rPr>
              <a:t>Circles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ndy at the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ircumference 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Showcard Gothic"/>
              </a:rPr>
              <a:t>End of Year Projec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metry Summ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ultiple Intelligence TIC-TAC-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Project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Description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 Geometry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:  Stephanie San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 Middle and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:  Geometry can come alive through using project based learning.  Come and see a plethora of geometry projects that incorporates higher order thinking and application to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838080" y="533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Let’s get started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990720" y="1752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Teeing off in 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914400" y="4572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Reasoning and  Proof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609480" y="2286000"/>
            <a:ext cx="739152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of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Advertisemen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If you give a geometry student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Angle Relationship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gin’ with the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gle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09480" y="533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arallel Lines, Transversals and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85800" y="2666880"/>
            <a:ext cx="68580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it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City Projec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City Project Letter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p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lma Lou Meets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gruent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Quil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uilt Histor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tain Glas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riangular Creativit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aleidoscop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oothpick Bridge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IC-TAC-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Polygon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Quadrilateral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h Clementin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ag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i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it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3-D and Solid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eating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atland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1:30:22Z</dcterms:created>
  <dc:creator>Jayhawks</dc:creator>
  <dc:description/>
  <dc:language>en-US</dc:language>
  <cp:lastModifiedBy>Stephanie Sandwell</cp:lastModifiedBy>
  <dcterms:modified xsi:type="dcterms:W3CDTF">2010-11-16T16:52:52Z</dcterms:modified>
  <cp:revision>16</cp:revision>
  <dc:subject/>
  <dc:title>Geometry in the Real World</dc:title>
</cp:coreProperties>
</file>